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2FE-4549-407B-86EC-71511F2E62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8F9-EF62-4AA8-AE7D-DFB993D9D30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087-C779-46EE-867B-0E65A3CB95A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1EB3-2E2B-4F22-82F5-F80D5760DF9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DB8-164F-4032-B879-2B58DD5F7AA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1730-B33A-409D-A69A-E9DFC071271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2B8-607E-4048-9016-FE92CEA377E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E4B-D49F-4327-AF06-4F106D00648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96B-FB70-4CEC-B374-DEF718D9A1B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A64-A3B7-47B5-B569-A20951B208E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2AEF-8FED-4373-A3A5-DAA7BAF0629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DB7B-F365-4752-AD55-2CF2ED518DF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E3F-A844-4CBD-8381-2FA5A1419AC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A0F1-4C9D-46A1-95AC-2C98E08CF91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4B93-4FF5-470C-86EB-4B94BE43A0C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45EF-436B-49AB-95F7-8D5950A415C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ECD-62A3-42C3-A192-2016758BA35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16A-2A1A-4705-926F-1DD835FA576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4DAF-A3FF-44D5-8678-B4AC1D2C62B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5CE1-FE01-4556-9E81-3C9468DEB16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D5F-F4B5-4C4E-8780-C4999A2DB35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6B57-2A80-49F6-99E8-53E1DBBFB90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0BBE-EAFB-4746-AE17-F4616D1B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7845-DE8C-4226-B48E-9C7D3D6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89E2-2002-47E3-9E4C-F9F6BB7C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C154-F913-43AC-9551-A743366C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B953-3B73-4A94-B9F2-86BCC4D0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9167-BD92-4D76-88F2-64FBF7A4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F729-5A2A-4577-A529-FFF6536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D6C2-ADDD-4A44-BBA5-C4E5D15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9DA3-47B0-4197-A789-7B6E068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41A5-971B-47C6-9E12-34327AA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56F8-1798-4C83-B1D8-A70C6E80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E6A5-2BC1-47F7-9370-859274B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3947-0B76-46FA-BB93-E640200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BEA1-3D44-44C5-9679-0A767F3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1E5B-D6B6-400C-A641-C40D7EB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C26-1BD6-44BE-BC72-883AC1C1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F4D1-9567-4838-B909-6EB3E9EF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2DCB-E1A9-413A-8C0A-75F03E9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28F7-7C89-46DF-9B7B-2C3F506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13C7-B3EF-4B8B-8768-97DED67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3E34-879E-4D57-9B56-7A5CA0B7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AC02-B7B4-40CB-B8ED-86BA5DE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B5A3-3B0A-4945-8737-E3D193F3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B7CD-BB38-4E34-8436-26ED9FC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821-2A1F-4681-B48A-6F14879D0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415C-3E0E-4741-88E8-D354FBD1F9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ançais 3 – Unité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lo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ire – Les pièces de la ma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à, c</a:t>
            </a:r>
            <a:r>
              <a:rPr b="0" i="1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st…/Ça, c</a:t>
            </a:r>
            <a:r>
              <a:rPr b="0" i="1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s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Changez de rôle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5" descr="61582a53-dd08-47ec-8aad-133ee2768c59_player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ontent Placeholder 2" descr=""/>
          <p:cNvPicPr/>
          <p:nvPr/>
        </p:nvPicPr>
        <p:blipFill>
          <a:blip r:embed="rId1"/>
          <a:srcRect l="0" t="13297" r="0" b="13297"/>
          <a:stretch/>
        </p:blipFill>
        <p:spPr>
          <a:xfrm>
            <a:off x="457200" y="217476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7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8" descr="1055c"/>
          <p:cNvPicPr/>
          <p:nvPr/>
        </p:nvPicPr>
        <p:blipFill>
          <a:blip r:embed="rId1"/>
          <a:stretch/>
        </p:blipFill>
        <p:spPr>
          <a:xfrm>
            <a:off x="533520" y="83808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173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8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Rounded Rectangular Callout 3"/>
          <p:cNvSpPr/>
          <p:nvPr/>
        </p:nvSpPr>
        <p:spPr>
          <a:xfrm>
            <a:off x="5486400" y="152280"/>
            <a:ext cx="3352680" cy="2362320"/>
          </a:xfrm>
          <a:prstGeom prst="wedgeRoundRectCallout">
            <a:avLst>
              <a:gd name="adj1" fmla="val 60791"/>
              <a:gd name="adj2" fmla="val 8681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ounded Rectangular Callout 4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8638"/>
              <a:gd name="adj2" fmla="val 8745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éviso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Picture 15" descr="hiro-dining-room-set-inx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60534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1600200" y="76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salle à mang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6" descr="kitchen-makeovers-00"/>
          <p:cNvPicPr/>
          <p:nvPr/>
        </p:nvPicPr>
        <p:blipFill>
          <a:blip r:embed="rId1"/>
          <a:stretch/>
        </p:blipFill>
        <p:spPr>
          <a:xfrm>
            <a:off x="1981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1600200" y="43488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cuis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Picture 4" descr="MPj03996850000[1]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371600" y="130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salle de bai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4" descr="MPj03996920000[1]"/>
          <p:cNvPicPr/>
          <p:nvPr/>
        </p:nvPicPr>
        <p:blipFill>
          <a:blip r:embed="rId1"/>
          <a:stretch/>
        </p:blipFill>
        <p:spPr>
          <a:xfrm>
            <a:off x="18288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600200" y="76320"/>
            <a:ext cx="6400800" cy="131292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chambre de mes par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Contexte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Votre père a un invité un collègue français, M. Durand à dîner avec votre fami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M. Durand est arrivé chez vous et votre père vous demande de montrer la maison à M. Durand parce que vous parlez frança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5" descr="61582a53-dd08-47ec-8aad-133ee2768c59_player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1600200" y="76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chambre de ma soeu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ontent Placeholder 2" descr=""/>
          <p:cNvPicPr/>
          <p:nvPr/>
        </p:nvPicPr>
        <p:blipFill>
          <a:blip r:embed="rId1"/>
          <a:srcRect l="0" t="13297" r="0" b="13297"/>
          <a:stretch/>
        </p:blipFill>
        <p:spPr>
          <a:xfrm>
            <a:off x="457200" y="217476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447920" y="3589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e sous-s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7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Picture 8" descr="1055c"/>
          <p:cNvPicPr/>
          <p:nvPr/>
        </p:nvPicPr>
        <p:blipFill>
          <a:blip r:embed="rId1"/>
          <a:stretch/>
        </p:blipFill>
        <p:spPr>
          <a:xfrm>
            <a:off x="533520" y="83808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1600200" y="7632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a salle de séjou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8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1447920" y="228600"/>
            <a:ext cx="6400800" cy="703440"/>
          </a:xfrm>
          <a:prstGeom prst="rect">
            <a:avLst/>
          </a:prstGeom>
          <a:solidFill>
            <a:srgbClr val="6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le greni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Tâche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Jouer les rôl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) l’hô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résenter les pièces de « votre » mai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Dire un ou deux objets que l’on y trou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b) l’invité M. Dur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ommenter la piè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cc"/>
                </a:solidFill>
                <a:latin typeface="Tahoma"/>
              </a:rPr>
              <a:t>Éléments Requis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es expres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Ça, c’e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Il y a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C’est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+ adject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odè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rcRect l="0" t="9481" r="0" b="9481"/>
          <a:stretch/>
        </p:blipFill>
        <p:spPr>
          <a:xfrm>
            <a:off x="0" y="1100160"/>
            <a:ext cx="9158400" cy="492264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1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le sal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un sofa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une chais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ounded Rectangular Callout 6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très class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15" descr="hiro-dining-room-set-inx"/>
          <p:cNvPicPr/>
          <p:nvPr/>
        </p:nvPicPr>
        <p:blipFill>
          <a:blip r:embed="rId1"/>
          <a:stretch/>
        </p:blipFill>
        <p:spPr>
          <a:xfrm>
            <a:off x="685800" y="838080"/>
            <a:ext cx="8153280" cy="6053400"/>
          </a:xfrm>
          <a:prstGeom prst="rect">
            <a:avLst/>
          </a:prstGeom>
          <a:ln w="0">
            <a:noFill/>
          </a:ln>
        </p:spPr>
      </p:pic>
      <p:sp>
        <p:nvSpPr>
          <p:cNvPr id="147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6" descr="kitchen-makeovers-00"/>
          <p:cNvPicPr/>
          <p:nvPr/>
        </p:nvPicPr>
        <p:blipFill>
          <a:blip r:embed="rId1"/>
          <a:stretch/>
        </p:blipFill>
        <p:spPr>
          <a:xfrm>
            <a:off x="1981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MPj03996850000[1]"/>
          <p:cNvPicPr/>
          <p:nvPr/>
        </p:nvPicPr>
        <p:blipFill>
          <a:blip r:embed="rId1"/>
          <a:stretch/>
        </p:blipFill>
        <p:spPr>
          <a:xfrm>
            <a:off x="167652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#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4" descr="MPj03996920000[1]"/>
          <p:cNvPicPr/>
          <p:nvPr/>
        </p:nvPicPr>
        <p:blipFill>
          <a:blip r:embed="rId1"/>
          <a:stretch/>
        </p:blipFill>
        <p:spPr>
          <a:xfrm>
            <a:off x="1828800" y="9144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ular Callout 3"/>
          <p:cNvSpPr/>
          <p:nvPr/>
        </p:nvSpPr>
        <p:spPr>
          <a:xfrm>
            <a:off x="152280" y="152280"/>
            <a:ext cx="3353040" cy="2362320"/>
          </a:xfrm>
          <a:prstGeom prst="wedgeRoundRectCallout">
            <a:avLst>
              <a:gd name="adj1" fmla="val -60518"/>
              <a:gd name="adj2" fmla="val 7593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1: Ça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l y 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ounded Rectangular Callout 4"/>
          <p:cNvSpPr/>
          <p:nvPr/>
        </p:nvSpPr>
        <p:spPr>
          <a:xfrm>
            <a:off x="5638680" y="228600"/>
            <a:ext cx="3353040" cy="2362320"/>
          </a:xfrm>
          <a:prstGeom prst="wedgeRoundRectCallout">
            <a:avLst>
              <a:gd name="adj1" fmla="val 64402"/>
              <a:gd name="adj2" fmla="val 8042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2: Oui, c’est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10-16T13:38:55Z</dcterms:modified>
  <cp:revision>88</cp:revision>
  <dc:subject/>
  <dc:title>Allez, viens! – Level 2</dc:title>
</cp:coreProperties>
</file>